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27CB3-3A22-4693-B994-6D9DE9DD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E5CF-F71A-4D15-A19D-3AEE8B12A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D51E-9DDC-414C-BE0D-74786C4B2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9BA0-80E5-419D-B2A1-7048459D8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E1A9-1291-4FB0-A7D6-66424AFA4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31A4-F06E-43DC-81B2-54D86BE13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6BD4F-4A01-4AB0-BFE8-29D5EA560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DD7D-9F72-41E9-B28A-6DE948B58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4AE1-5B2F-4035-8830-937E2C2EA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D951-126F-41F1-9AD2-66827D06B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59D-BEE9-4B60-8704-BDC79B1E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95D44-D1EA-4BA7-B568-CEA359D8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CDA04-5447-4FFD-84B6-AC495C048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br>
              <a:rPr sz="4200"/>
            </a:br>
            <a:r>
              <a:rPr b="0" lang="sr-CS" sz="42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115920"/>
            <a:ext cx="1362240" cy="1857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224000" y="4797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снови физиологије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м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ни знаци тровања су последица ексцесивне активац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скарински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 укључују миозу, саливацију, знојење, бронхоконстрикцију, повраћање и дијареј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ни знаци тровања су когнитивни поремећаји, конвулзије, па чак и ко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ци тровања често обухватају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ефекте као што је деполаришућа неуромишићна блок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терапији се у великим дозама парентерално примењује антагонист мускаринских рецептор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п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мах по деловању отрова могу да се примен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клеоф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о што ј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лидокс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цепају везе између органских фосфата и ацетилхолинестера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ридостигм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а пре деловања отрова, он се може везати за ензим и спречити везивање токсичног агенса, али пошто не пролази кроз крвно-мождану баријеру, његово заштитно деловање је ограничено само на периферне холинергичке синап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ридостигм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ам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п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е може давати профилактички војницима и цивилима када постоји ризик од примене ових отр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нзодиазеп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е могу користити за сузбијање ефеката ових отрова на централни нервни сис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564000" y="4024440"/>
            <a:ext cx="2016000" cy="278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16000" y="4581360"/>
            <a:ext cx="3060720" cy="202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940360" y="4591080"/>
            <a:ext cx="2987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је неуродегенеративно обољење које настаје услед губитка преганглијских неурона аутономног нервног система у кичменој мождини и можданом стаб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лед тога настају тешкоће у регулацији телесне температуре, баланса воде и електролита и контроли крвног прит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ође постоје и дефицити у функционисању церебелума, базалних ганглија, доњих оливарних једара и пирамидалног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финише ка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о спорадична, прогресивна болест која се јавља у одраслом добу, а карактерише се дисфункцијама аутономног нервног система, паркинсонизмом, церебеларном атаксијом уз различите комбинације ових поремећа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ебан облик овог обољења у којем доминира дисфункција аутономног нервног система, описан је ка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ај-Драгеров синд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чни патохистолошки знаци МСА су цитоплазматске и једарне инклузије олигодендроцита у централним моторним областима и централним областима аутономног нервног сис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300720" y="3805200"/>
            <a:ext cx="2735280" cy="269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3795840"/>
            <a:ext cx="6264360" cy="2736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63440" y="6531120"/>
            <a:ext cx="596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 Narrow"/>
              </a:rPr>
              <a:t>Рендгенски снимак мозга здраве особе и особе оболеле од М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81440" y="6264360"/>
            <a:ext cx="965520" cy="261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ffffff"/>
                </a:solidFill>
                <a:latin typeface="Arial Narrow"/>
              </a:rPr>
              <a:t>Здрава осо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831480" y="6237360"/>
            <a:ext cx="1526400" cy="261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ffffff"/>
                </a:solidFill>
                <a:latin typeface="Arial Narrow"/>
              </a:rPr>
              <a:t>Особа оболела од М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93640" y="3949560"/>
            <a:ext cx="871200" cy="20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00" spc="-1" strike="noStrike">
                <a:solidFill>
                  <a:srgbClr val="ffffff"/>
                </a:solidFill>
                <a:latin typeface="Arial Narrow"/>
              </a:rPr>
              <a:t>Рендгенски снима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3545640" y="4005360"/>
            <a:ext cx="871200" cy="20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00" spc="-1" strike="noStrike">
                <a:solidFill>
                  <a:srgbClr val="ffffff"/>
                </a:solidFill>
                <a:latin typeface="Arial Narrow"/>
              </a:rPr>
              <a:t>Рендгенски снима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264360" y="6531120"/>
            <a:ext cx="284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 Narrow"/>
              </a:rPr>
              <a:t>Патохистолошки знаци М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зрок настанка МСА није јасан, али постоје подаци који указују на неуроинфламаторне механизме који активирају микроглију и продукцију токсичних цитокина у мозгу ових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зални нивои симпатичке активности, као и нивои норадреналина у плазми ових пацијената су нормални, али се не повећавају приликом устајања или неког другог стимулуса, што може да изазове озбиљн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тостатску хипотензиј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У МСА се постоји и дисфункција парасимпатикуса која узрокује уринарне и сексуалне поремећаје, а први знак болести често је еректилна дисфункциј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Болест се најчешће дијагностикује између 50. и 70. године живота, а јавља се чешће код мушкарац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Јављају се и аномалије у функционисању барорецептора и контроли респираторне функ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Иако се поремећаји у функционисању аутономног нервног система јављају као најчешћи први симптоми, 75% пацијената који болују од МСА такође имају и поремећај мотори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е постоји специфична терапија МСА, али се различити терапијски поступци користе у третману симптома и знакова боле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и се често примењују у покушају да се спречи губитак воде и соли и одржи крвни притиса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појединаца који имају симптоме сличне симптомима Паркинсонове болести примењују се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леводоп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evodop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арбидоп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rbidop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спитује се и интравенска примена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муноглобулин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ради спречавања неуроинфламаторних проце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ветска здравствена организација је објавила податак да се код 1–3% радника у пољопривреди јавља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акутно тровање пестицидим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4920" y="3451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297160" y="3500280"/>
            <a:ext cx="1116000" cy="279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451320" y="3429000"/>
            <a:ext cx="15523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4896000" y="3141720"/>
            <a:ext cx="2484360" cy="350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>
            <a:off x="7380360" y="2546280"/>
            <a:ext cx="14396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ао и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н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паратион, малатион) и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нервн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гасов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соман, сарин), који се користе као хемијско оружје, инхибишу ацетилхолинестеразу у периферним и централним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холинергичким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синапсам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, пролонгирајући деловање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у тим синапса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ни инхибитори ацетилхолинестеразе се лако апсорбују преко коже, плућа, црева и коњуктива, што их чини веома опасни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Лако се везују за ензим и узрокују фосфорилацију активног места на ензим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5:27:17Z</dcterms:created>
  <dc:creator>Vlada Jakovljevic</dc:creator>
  <dc:description/>
  <dc:language>en-US</dc:language>
  <cp:lastModifiedBy>Vlada Jakovljevic</cp:lastModifiedBy>
  <dcterms:modified xsi:type="dcterms:W3CDTF">2016-03-11T08:28:03Z</dcterms:modified>
  <cp:revision>8</cp:revision>
  <dc:subject/>
  <dc:title>Мултипла системска атрофија Органофосфати: пестициди </dc:title>
</cp:coreProperties>
</file>