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593D4-A57D-46ED-BAD5-8043EE1FB3E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CF6D-0BBE-4839-BDBB-991887143DC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FD6D-A6C8-485A-A527-1E8DC67651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7E8C-25B8-4F73-9B4B-56EB8F83AA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86A22-C979-4A69-8547-569127DDE3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44E63-7FD3-46DD-994E-5B28299B7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2BCA9-6222-4ED9-803B-97F808A88C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DEC6A-F430-4933-B395-6847AE2A36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4D1B9-85B0-4671-AB84-6717CBD807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F1098-9C2C-448D-A999-C9537FFD97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65549-77A9-4E11-99F2-0093C358F7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72BB4-5D77-4CAE-8D59-4C87858AD0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86721-630A-4075-86D7-947AF00145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A431B-2AF6-4913-B1BB-E9EC88B029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A577D-D97E-4A94-A92E-C0C6087DF6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8B24-6572-4C28-AD31-CDB7E40EB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30BD-2FC5-4198-8B2C-AA6EF4C5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48D3-40C7-4B07-B6FE-6E2F8A713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4A5A-F21C-4610-BBFB-CBD18485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5190-EED5-41E8-BBCB-F50AE9DA0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C22-BF4F-44F0-9994-6DCBCE1C8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6953-CB85-4B98-BF0F-3DB377AFB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692B-270F-4765-8294-0612A889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6741-0C40-4180-B6E5-C14421D5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71C3D-C8C0-4F8E-B6EA-FFBB74BAB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2CE0-7047-4113-9F0A-7CC5CB76C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3A604-64CF-4EDE-9D8E-AD7D72661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C560-E108-4EA3-961C-72B3CC658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Аутономни нервни систем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Циклус будност-спавањ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24000" y="5319360"/>
            <a:ext cx="70200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оц. др Иван Среј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-27000"/>
            <a:ext cx="1362240" cy="1857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3899880" y="17938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2020/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Arial"/>
                <a:ea typeface="Arial"/>
              </a:rPr>
              <a:t>GA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је главн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хибитор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медијатор у моз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инхибише и пресинаптичку и постсинаптич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мис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, која се у телесним течностима на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обли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β-аминобутирата, настаје декарбоксила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а  под дејством ензи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карбоксил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 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ше трансаминацијом до сукцинил-семиладехида под дејством ензи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-трансамин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-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а потом до сукцината у циклусу лимун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л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 сада су откривена три тип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 рецепто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GAB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 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ироко распрострањени у ЦНС, док се GAB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одраслих кичмењака налазе скоро искључиво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режњ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Arial"/>
                <a:ea typeface="Arial"/>
              </a:rPr>
              <a:t>GA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 су јонотропни рецептори који омогућавају улаз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неуроне, 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 су метаботроп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-повезани рецептор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PCR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повећавају проводљивост К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анала, а инхибишу аденилил циклазу и улазак Са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16160" y="3097080"/>
            <a:ext cx="65116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Arial"/>
                <a:ea typeface="Arial"/>
              </a:rPr>
              <a:t>GA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280" y="83664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улас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изласка К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као и смањење уласка Са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азива хиперполаризацију неурона, што узрокује брзи инхибиторни постсинаптички одгов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SP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Бензодиазепини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(диазепам) повећавају проводљивост з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активацијом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а и имају антианксиозно дејство, а такође су ефикасни миорелаксанси, антиконвулзиви и седатив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Барбитурати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(фенобарбитал) ефикасни су антиконвулзиви јер повећавају инхибицију посредовану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ма и смањују ексцитацију посредовану АМРА рецепторима. Анестетичка својства барбитурата (тиопентанал, фенобарбитал и метокситал) су последица њиховог агонистичког деловања н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е, као и неуромодулаторног деловања на трансмисију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AB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22160" y="5877000"/>
            <a:ext cx="7699680" cy="92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720720" y="5300640"/>
            <a:ext cx="770400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Ацетилхо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је трансмитер у неуромишићној спојници, аутономним ганглијама, као и у спојевима постганглијских парасимпатичких нерава и циљних органа и спојевима неких симпатичких постганглијских нерава и циљних ткив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 се налази у малим, јасно ограниченим везикулама које су концентрисане у завршецим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холинергичких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неуро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 се синтетише у нервним завршецима од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холи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-Со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под дејством ензим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холин ацетилтрансферазе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hA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Холин који учествује у синтези ацетилхолина транспортује се из екстрацелуларног простора у нервни завршетак прек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-зависног холинског транспортер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СНТ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 се ослобађа када нервни импулс иницира улазак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1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у нервни завршета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Ацетилхо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 се из синптичке пукотине уклања хидролизом до холина и ацетата под дејством ензи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естер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а холинестер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ји више различитих холинестераза у организму које нису специфичне за ацетилхолин, а једна од њих, која се налази у плазми, назива с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сеудохолинестераз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348000" y="3743280"/>
            <a:ext cx="5651640" cy="302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0" y="3789360"/>
            <a:ext cx="341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родимензионални модел никотинског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цетилхолин-зависног јонског канал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а се два молекула ацетилхолина вежу за део α-субјединице на површини ћелијске мембране, отвара се део канала који се налази у липидном двослоју, па K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Na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лазе кроз отворени канал према свом  електрохемијском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дијен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Ацетилхо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е према својим фармаколошким карактеристикама деле у две основне груп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скаринс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котинс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и пет различитих типова мускаринских холинергичких рецептора (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и мускарински рецептори се убрајају у метаботропне рецепторе, који су преко G-протеина повезани са аденилил-циклазом, 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налима и/или фосфолипазом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котински рецептори се према својој локализацији додатно деле на: рецепторе који се налазе у неуромишићној спојници (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и рецепторе који се налазе у ЦНС и аутономним ганглијама (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котински ацетилхолински рецептори припадају суперфамилији лиганд-зависних јонских канала (јонотропни рецептори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38360" y="4221000"/>
            <a:ext cx="7684920" cy="1854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Ацетилхо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5280" y="981000"/>
            <a:ext cx="8893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ваки никотински холинергички рецептор се састоји од пет субјединица које формирају централни канал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Значајну карактеристику никотинских холинергичких рецептора на неуронима представља велика пермеабилност за Ca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720720" y="3645000"/>
            <a:ext cx="770400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06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Моноамини: норадреналин и адрен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5280" y="83664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је хемијски трансмитер који се налази у већини симпатичких постганглијских нервних завршетак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 и његов метилирани дериват –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ал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секретују се и у кори надбубрега, али адреналин нема функцију трансмитера на постганглијским нервним завршецим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еурони који секретују норадреналин називају се прецизн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ергичк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еурон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мада их често називају 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ергичким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еуроним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Главн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катехоламин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у људском организму (норадреналин, адреналин и допамин) настају хидроксилацијом и декарбоксилацијом амнокиселине тирози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У цитоплазми ових неурона тирозин се претвара у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ихидроксифенилалан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DOPA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). Под дејством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тирозинхидроксилаз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а затим 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DOPA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екарбоксилаз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DOPA се претвара у допамин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Моноамини: норадреналин и адрен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5280" y="83664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восинтетисани допамин се транспортује у везикуле, где се претвара у норадреналин уз помоћ ензима допамин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β-хидроксилаз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DBH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У неким неуронима ЦНС и сржи надбубрега у цитоплазми се налази и ензим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фенилетаноламин-N-метилтрансфераз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PNM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), који катализује претварање норадреналина у адреналин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реузимање у пресинаптички неурон представља главни механизам за прекидање деловања норадренали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алин и норадреналин се под дејством ензима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моноамин оксидаз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МАО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) 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катехол-О-метилтрансфераз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ОМТ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), у процесима оксидације и метилације, метаболишу до молекула који немају биолошку активност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6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Моноамини: норадреналин и адрен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280" y="83664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 адреналин и норадреналин остварују своје ефекте делујући прек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β-адренергичких рецептор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 има већи афинитет за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-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орецепторе, док адреналин има већи афинитет за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β-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орецепторе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орецептори се убрајају у метаботропне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GPCR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 и имају више подврста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 – β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ећина α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а је преко G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протеина повезана са фосфолипазом С, што изазива стварање IP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и DAG и мобилизацију интрацелуларних резерви Са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односно активацију протеин киназе С, што за последицу има активацију постсинаптичког неуро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орецептори активирају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хибиторне протеине, што инхибише аденилил циклазу и смањује концентрацију цикличног АМ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604a7b"/>
                </a:solidFill>
                <a:latin typeface="Arial"/>
                <a:ea typeface="Arial"/>
              </a:rPr>
              <a:t>Неуротрансмитери и неуромодулатор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419040"/>
            <a:ext cx="1362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06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Моноамини: норадреналин и адрен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5280" y="83664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адренорецептори активирају улазак јона кроз К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канале посредством G-протеин-повезаних рецептора, што изазива хиперполаризацију мембране и инхибише Ca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канале на неуроним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β-адренорецептори активирају G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ѕ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стимулаторне протеине, што активира аденилил циклазу и повећава концентрацију цикличног АМ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20720" y="4719600"/>
            <a:ext cx="7702560" cy="1495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720720" y="4114800"/>
            <a:ext cx="770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велике молекулске м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велике молекулске масе се називају и неуропепти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1859c"/>
                </a:solidFill>
                <a:latin typeface="Arial"/>
                <a:ea typeface="Arial"/>
              </a:rPr>
              <a:t>Супстанца Р</a:t>
            </a:r>
            <a:r>
              <a:rPr b="0" lang="sr-CS" sz="2800" spc="-1" strike="noStrike">
                <a:solidFill>
                  <a:srgbClr val="31859c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пада породици тахикинина, ка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урокинин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урокинин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врсте неурокининских рецептор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), који припадају групи метаботропни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PC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аа супстанца Р је лиганд који се најчешће везује з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1 рецепторе у ЦНС и узрокује повећано стварањ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1859c"/>
                </a:solidFill>
                <a:latin typeface="Arial"/>
                <a:ea typeface="Arial"/>
              </a:rPr>
              <a:t>Опиоидни пептид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енкефал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уенкефал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који се називају 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кефалин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 везују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иоидн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велике молекулске м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иоидни пептиди имају више различитих прекурсор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енкефал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опиомеланокор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инорф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класе опиоидних рецептор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са својим различитим подтипов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ирање μ-опиоидних рецептора повећава проводљивост за K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и чему долази до хиперполаризације, док активирање κ и δ-рецептора узрокује затварање С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н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 које постоје у мозгу и понашају се као трансмитери су: соматостатин, вазопресин, окситоцин, брадикинин, ангиотензин II, ендотелин, вазоактивни интестинални пептид (VIP), холецистокинин, гастрин, неуротензин, галанин, гастрин-ослобађајући пептид, неуропепти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604a7b"/>
                </a:solidFill>
                <a:latin typeface="Arial"/>
                <a:ea typeface="Arial"/>
              </a:rPr>
              <a:t>Аутономни нервни систе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492120"/>
            <a:ext cx="1362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Аутономни нерв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номни нервни систем (АНС) је део нервног система који одржава хомеоста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номни нервни систем има два анатомски одвојена дел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атич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симпатич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ервни сист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 разлику од соматомоторног нервног система, периферни делови АНС су састављени од два неурон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англијск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ганглијск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ска тела преганглијских нервних влакана се налазе у интермедиолатералним стубовима кичмене мождине и моторним једрима неких кранијалних нер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англијс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сони су танка, мијелинизована и спора влакна типа B, док су аксони постганглијских неурона су углавном немијелинизована влакна типа C и завршавају се у висцералним ефекторним орган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Аутономни нерв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На преганглијским влакнима аутономног нервног система ослобађа се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, а п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стганглијски парасимпатички неурони такође ослобађају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а постганглијски симпатички неурони ослобађају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213080" y="2887560"/>
            <a:ext cx="4896000" cy="392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44360" y="2955960"/>
            <a:ext cx="4211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еђење периферне организације и ослобођених трансмитера соматомоторног и аутономног нервног систем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 соматомоторном нервном систему, неурон који напушта кичмену мождину се пружа директно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фекторног органа. У аутономном нервном систему, постоји синапса између неурона који напушта кичмену мождину и ефекторног органа (изузев неурона који инервишу срж надбубрежне жлезд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азите да сви неурони који напуштају централни нервни систем ослобађају ацетилхолин, допамин, адреналин и норадренал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80" y="274680"/>
            <a:ext cx="8893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04a7b"/>
                </a:solidFill>
                <a:latin typeface="Arial"/>
                <a:ea typeface="Arial"/>
              </a:rPr>
              <a:t>Симпатички део аутономног нервног систе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англијски неурони симпатичког нервног система се налазе у интерме диолатералним стубовима кичмене мождине, од првог торакалног до трећег или четвртог лумбалног сегмента, па се често нази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раколумбал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АН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сони симпатичких преганглијских неурона напуштају кичмену мождину на нивоу на коме се налазе тела ових ћелија, и излазе кроз предње коренове заједно са аксонима α- и γ-мотонеурона, а затим се одвајају од предњих коренова прек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л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уникацијских гр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ужају д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атичких паравертебралних гангл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англије и аксони заједно формирај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атич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на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се пружа са обе стране кичменог сту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280" y="274680"/>
            <a:ext cx="8893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04a7b"/>
                </a:solidFill>
                <a:latin typeface="Arial"/>
                <a:ea typeface="Arial"/>
              </a:rPr>
              <a:t>Симпатички део аутономног нервног систе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96000" y="981000"/>
            <a:ext cx="3222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ужање симпатичких преганглијских и постганглијских нервних влака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На слици је представљен торакални део кичмене мождине, паравертебралне и превертебралне ганглије. Преганглијски неурони су обојени црвено, а постганглијски тамнопла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44360" y="1197000"/>
            <a:ext cx="5694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012000" y="981000"/>
            <a:ext cx="300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ј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мпатичк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лево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симпатичк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десно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рвн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Холинергички нерви су представљени црвено, а норадренергички плаво. Преганглијски нерви су представљени пуним, а постанглијски испрекиданим линија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44360" y="46080"/>
            <a:ext cx="57117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04a7b"/>
                </a:solidFill>
                <a:latin typeface="Arial"/>
                <a:ea typeface="Arial"/>
              </a:rPr>
              <a:t>Парасимпатички део аутономног нервног систе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280" y="1079640"/>
            <a:ext cx="889344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еганглијски неурони парасимпатичког дела АНС се налазе у неколико једара кранијалних нерава (III, VII, IX, X) и у интермедиолатералним стубовима сакралног дела кичмене мождине, због чега се овај део назив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раниосакрал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е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Н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н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стфал-Едингеров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јед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куломоторног нерва пројектују се до цилијарног ганглиона одакле инервишу сфинктер дужице и цилијарни миши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ни из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орњег саливаторног јед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фацијалног нерва се пројектују д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фенопалатиналног гангли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дакле инервишу сузне жлезде, назалну и палатиналну мукозу, и д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бмандибуларног гангли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дакле инервишу субмандибуларне и субмаксималне жлез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емијска трансми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ве фазе хемијске трансмисије подразумевају синтез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трансми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јчешће 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наптич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зикул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терминалних нервних завршета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тога след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емијске супстанце 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наптич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коти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о одговор на нервне импул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товани неуротрансмитер затим може да делује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мештене на мембран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синаптичк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фекторн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мишић или жлезда) (или чак самог пресинаптичког нервног завршетк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дње фазе у процесу трансмисије представљају прекидање деловања неуротрансмитера и обухватају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фузи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еуротрансмитера из синаптичке пукотине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но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узим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у нервни завршетак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нзимс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градњ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Ћелијска тела у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оњем саливаторном једр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глософарингеалног нерва пројектују се до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тичког ганглио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одакле инервишу паротидну пљувачну жлезд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агус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влакна из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mbigu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нервишу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чвор срца, а неурони из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адњег моторног једр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вагуса инервишу једњак, душник, плућа и гастроинтестинални трак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арасимпатичка сакрална влакна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лвич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рв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 инервишу органе у пелвису преко грана у саставу другог до четвртог сакралног спиналног нер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04a7b"/>
                </a:solidFill>
                <a:latin typeface="Arial"/>
                <a:ea typeface="Arial"/>
              </a:rPr>
              <a:t>Парасимпатички део аутономног нервног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04a7b"/>
                </a:solidFill>
                <a:latin typeface="Arial"/>
                <a:ea typeface="Arial"/>
              </a:rPr>
              <a:t>Трансмисија у аутономном нервном систе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5280" y="836640"/>
            <a:ext cx="8893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лавни неуротрансмитери у аутономном нервном систему су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Холинергичк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неурони аутономног нервног система (ослобађај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) су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1) преганглијски неурон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2) сви парасимпатички постганглијски неурон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3) симпатички постганглијски неурони који инервишу жлезд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4) симпатички постганглијски неурони који се завршавају на крвним судовима у скелетним мишићима и изазивају вазодилатацију (симпатички вазодилататорни нерв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тали симпатички постганглијски неурони с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ергичк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(ослобађај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рж надбубрежне жлезде је у ствари симпатички ганглион у коме су постганглијске ћелије изгубиле своје аксоне и секретују адреналин и норадреналин директно у циркулациј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Одговори постганглијских неурона на стимулацију преганглијских неурона ацетилхолином подразумевају брзу деполаризацију –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брзи ексцитаторни постсинаптички потенцијал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ЕПС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), који генерише акционе потенцијале, и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пролонгирани ексцитаторни постсинаптички потенцијал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спори ЕПС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деполаризација настаје деловањем ацетилхолина на N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пори ЕПСП настају деловањем ацетилхолина на мускаринске рецепторе у мембрани постганглијског неуро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и М</a:t>
            </a:r>
            <a:r>
              <a:rPr b="0" lang="sr-C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се налазе у срцу и њихова стимулација изазива отварање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канала и инхибицију аденилил циклаз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и М</a:t>
            </a:r>
            <a:r>
              <a:rPr b="0" lang="sr-C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се налазе у глатким мишићима и жлездама, и њихова стимулација изазива формирање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AG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и повећања концентрације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у ћелиј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Холинергичка неуротрансми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5280" y="836640"/>
            <a:ext cx="8893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 ослобођен из симпатичких нервних завршетака се везује за адренергичке рецeпто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ивање агонисте 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, активи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везани протеин што изазива формирањ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повећања ниво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ћели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ивање агонисте 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 узрокује дисоцијацију инхибитор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ротеина који инхибицијом аденилил циклазе изазива смањење концентрације цикличног аденозин монофосфат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ћели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ивање агониста 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 узрокује активацију стимулатор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а који активира аденилил циклазу и повећава концентрац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ћели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Норадренергичка неуротрансми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5280" y="836640"/>
            <a:ext cx="8893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номни нервни систем регулише и координира многе физиолошке функције као што су проток крви, крвни притисак, срчану фреквенцију, проток ваздуха у дисајним путевима, мотилитет гастроинтестиналног тракта, контракције мокраћне бешике, жлездану секрецију, телесну температуру и сексуалне функ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 разлику од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тонеурона, где ослобађање ацетилхолина увек изазива контракцију, ослобађање ацетилхолина у глатким мишићима неких органа изазива контракцију (зид гастроинтестиналног тракта), а у другим релаксацију (сфинктери у гастроинтестиналном тракт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рце је још један пример органа са дуплом инервацијом, стимулација симпатичких влакана повећава срчану фреквенцију, док је стимулација парасимпатичких влакана смању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Одговори ефекторних орг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7640" y="1425600"/>
            <a:ext cx="9108720" cy="50990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0" y="69228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говори неких ефекторских органа на активност аутономног нервног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17640" y="2206800"/>
            <a:ext cx="9179280" cy="417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-36360" y="1590840"/>
            <a:ext cx="918036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0" y="83808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говори неких ефекторских органа на активност аутономног нервног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604a7b"/>
                </a:solidFill>
                <a:latin typeface="Arial"/>
                <a:ea typeface="Arial"/>
              </a:rPr>
              <a:t>Електрична активност мозга, спавање и циркадијални рита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492120"/>
            <a:ext cx="1362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5280" y="836640"/>
            <a:ext cx="8893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тода регистровања електричних потенцијала мозга помоћу електрода постављених на поглавину се назив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енцефалографиј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Е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кортикогр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K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подразумева регистровање електричне активности мозга помоћу електрода које се налазе на страни кортекса окренутој ка можданим овојница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ЕГ који се региструје са поглавине више је мера збира дендритских постсинаптичких потенцијала него акционих потенциј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Електроенцефалогра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5280" y="836280"/>
            <a:ext cx="8893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одраслих особа које су будне и мирују, размишљају са затвореним очима, најзаступљенија компонента ЕЕГ-а који се региструје са поглавине је прилично правилан образац таласа фреквенце 8−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z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амплитуде 50−1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 нази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фа ри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се пажња усмери на нешто, алфа ритам замењује неправилна, нисковолтажна активност, фреквенце 13−30 Hz, која се нази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та ри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Алфа, бета и гама 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71280" y="4005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53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ама осцила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фреквенце 30–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z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се виђају код  особа које су будне и чија је пажња фокусирана на неш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529160" y="3772080"/>
            <a:ext cx="4500720" cy="29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емијска трансми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е наведене процесе, као и догађаје у синаптичком неурону, регулишу бројни физиолошки фактори који се могу мењати применом лекова, чиме се отвара могућност да се применом лекова утиче на регулацију низа процеса, као што су: соматска и висцеларна моторна активност, емоције, понашање и остале сложене мождане функ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е хемијске супстанце које ослобађају неурони имају минималне или уопште немају директне ефекте, али могу да мењају дејства неуротрансмитера и називају 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модулато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е главне класе хемијских супстанци које могу бити неуротрансмитери или неуромодулатор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мале молекулске мас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велике молекулске мас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е врсте спавања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eye mov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авање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оталас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пава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REM спавање је названо по карактеристичним покретима очију током ове фазе спав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NREM спавање се дели на четири фаз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1) фаза 1, док особа заспива на ЕЕГ-у се региструју нисковолтажни таласи различитих фреквенција. У овој раној фази спороталасног спавања може да се вид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тета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итам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(4−7 Hz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2) фазу 2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REM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павања карактеришу синусоидални таласи који се називају „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ретен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павањ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” (12−14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Hz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повремени вискоковолтажн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бифазични К-комплекс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3) фаза 3, ЕЕГ-ом доминира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елт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ритам високе амплитуде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4) фаза 4, постоји максимално успоравање ритма са великим таласим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Фазе спа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е таласе који се региструју на ЕЕГ-у током спавања наизменично замењују брзи, нисковолтажни таласи, слични таласима који се региструју током буђења, узбуђења и фазе 1 спавања, због чега се ова фаза нази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доксал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ав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парадоксалног спавања постоје брзи, кружни покрети очију, по чему је ова фаза спавања добила назив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eye mov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Фазе спа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4360" y="4076640"/>
            <a:ext cx="8855280" cy="2070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ЕГ и мишићна активност током различитих фаза циклуса будност–спава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ећина ћелија усклађује своју функцију са дневно-ноћним циклусом светлости спољашње среди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вај процес усклађивања у већини случајева зависи од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супрахијазматских једар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хипоталамуса која се налазе обострано изнад оптичке хијазм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ва једра примају информације о промени дневно-ноћног циклуса посредством специјалног нервног пута који чин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ретинохипоталамичк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лакн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Циркадијални ритам спавања и будности састоји се у просеку од 6–8 часова спавања и 16–18 часова буд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оред наведених структура у регулацији спавања учествује и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епифиз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која секретуј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мелатонин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Циркадијални 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85640" y="981000"/>
            <a:ext cx="8172720" cy="5823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Циркадијални 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атонин се синтетише из серотонина путем N-ацетилације и О-метилације у пинеалоцитима, и секретује се у циркулацију и цереброспиналну теч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неуронима супрахијазматских једара постоје две врс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атонин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Т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Т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и обе врсте рецептора су G-протеин-повезани рецепто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ација МТ1 рецептора инхибише аденилил циклазу и изазива поспанос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ација МТ2 рецептора стимулише хидролизу фосфоинозитида, што може да буде важно у синхронизацији са циклусом светлост–т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невне промене секреције мелатонина могу да имају улогу у координацији ритма будност–спавање са циклусом светлост–тама, па се синтеза и секреција мелатонина повећавају током ноћи, а смањују током д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Циркадијални 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604a7b"/>
                </a:solidFill>
                <a:latin typeface="Arial"/>
                <a:ea typeface="Arial"/>
              </a:rPr>
              <a:t>Памћење и учењ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492120"/>
            <a:ext cx="1362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Учењ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ља прикупљање информација, а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амћењ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ља задржавање и складиштење тих информациј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амћење се дели на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експлицит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имплицит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Експлицит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декларатив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памћење је повезано са будним стањем, или бар са очуваном свешћу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Експлицитно памћење је повезано са хипокампусом и другим деловима медијалних темпоралних режњева у којима се памћење чу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Имплицитна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едекларативна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меморија не укључује свесност и обично не укључује обраду у хипокампус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04a7b"/>
                </a:solidFill>
                <a:latin typeface="Arial"/>
                <a:ea typeface="Arial"/>
              </a:rPr>
              <a:t>Памћење и уч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5280" y="47592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ксплицитно памћење се односи на чињенице о људима, местима и стварима и дели се н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мантичк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амћење за чињенице (на пример речи, правила, језик)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пизод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амћење за догађа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мплицитно памћење је важно за рефлексне моторне или перцептивне вештине и дели се у четири типа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јмин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фацилитација препознавања речи или објеката на основу њихове претходне изложености и зависи од неокортекса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2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л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амћење обухвата вештине и навике које, једном усвојене, постају несвесне и аутоматске (овај тип памћења се процесуира у стријатуму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04a7b"/>
                </a:solidFill>
                <a:latin typeface="Arial"/>
                <a:ea typeface="Arial"/>
              </a:rPr>
              <a:t>Памћење и у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социјати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учење се односи на класично или оперантно условљавање у коме се учи о односу између два стимулуса (зависи од функција амигдала у емоционалном одговору и церебелума у моторном одговору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4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асоцијати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учење укључује хабитуацију и сензитизацију и зависи од различитих рефлексних пут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Експлицитно памћење и многи облици имплицитног памћења могу се класификовати као: (1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раткороч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амћењ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, чије се трајање мери секундама или сатима, при чему обрада у хипокампусу и другим деловима мозга не изазива дуготрајне промене на синапсама, и (2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дугороч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амћењ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које траје годинама, некада и читавог живо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04a7b"/>
                </a:solidFill>
                <a:latin typeface="Arial"/>
                <a:ea typeface="Arial"/>
              </a:rPr>
              <a:t>Памћење и уч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04a7b"/>
                </a:solidFill>
                <a:latin typeface="Arial"/>
                <a:ea typeface="Arial"/>
              </a:rPr>
              <a:t>Памћење и уч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71280" y="1017720"/>
            <a:ext cx="9001440" cy="4066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295200" y="5157720"/>
            <a:ext cx="85248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Врсте памћења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Експлицитно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 (декларативно)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амћење је повезано са свесношћу и зависи од хипокампуса и других делова медијалног темпоралног лобуса мозга за његово задржавање. Она је важна за чињенице о људима, местима и стварима.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плицитн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недекларативно) памћење не укључуј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весност и обраду у хипокампусу. Важно је за увежбавање моторних рефлексних и перцептивних вештин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мале молекулске м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трансмитере мале молекулске масе се убрај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нокисели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иц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ами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нал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пам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ротон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з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фисф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Т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851280" y="2287440"/>
            <a:ext cx="5257800" cy="445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39640" y="566100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иосинтеза појединих малих неуротрансмитерских молеку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Глута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је главни ексцитаторни трансмитер у мозгу и кичменој мождини и сматра се да узрокује 75% ексцитаторне трансмисије у ЦН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а одвојена пута у синтези глутама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првог синтетског пута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глутарат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настаје у Кребсовом циклусу, конвертује се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дејством ензи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трансфера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BA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другог синтетског пут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 ослобађа из нервног завршетка у синаптичку пукотину посредством Са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зависне егзоцитозе и транспортује помоћу глутаматног носача у г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 ћелије, где се конвертује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дејством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ин синтет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том дифундује натраг у нервни заршетак где се поново хидролизује д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моћу ензим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ин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Глута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 делује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јонотроп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троп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подтипа јонотропних глутаматних рецептора, и сваки од њих је добио назив по свом релативно специфичном агони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AMPA рецепто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α-амино-3-хидрокси-5-метилизоксазол-4-пропионат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инатни рецепто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каинат је киселина изолована из морске трав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NMDA рецепто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N-метил-D-аспарта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ктивација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AMP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каинатних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јонотропних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глутаматних рецептора омогућава улазак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у ћелију и излазак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из ћелије, док активација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MD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а омогућава улазак релативно велике количин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уз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, што представља брзе ексцитаторне постсинаптичке одговоре (ЕРЅР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Глута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5280" y="981000"/>
            <a:ext cx="473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ациј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тропно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l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води или до повећања интрацелуларне концентраци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озито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,4,5–трифосф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ацилглицеро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до смањења интрацелуларне концентрације цикличног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з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фосфат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М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 сада је откривено осам подтипова mGl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11640" y="476280"/>
            <a:ext cx="5432400" cy="5022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427640" y="551664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 у глутаматергичкој синап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Глута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5280" y="3789360"/>
            <a:ext cx="889344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примена лекова који утичу на трансмисију глутаматних рецептора још увек је неразвијена због чињенице да је улога глутамата као неуротрансмитера откривена знатно касније у односу на већину осталих неуротрансмитера мале молекулске ма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о од подручја развоја лекова је интраспинална или екстрадурална примена антагониста NMDA рецептора у терапији хроничног бо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73280" y="692280"/>
            <a:ext cx="75974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09:04:36Z</dcterms:created>
  <dc:creator>Vlada Jakovljevic</dc:creator>
  <dc:description/>
  <dc:language>en-US</dc:language>
  <cp:lastModifiedBy>Jovana Joksimovic</cp:lastModifiedBy>
  <dcterms:modified xsi:type="dcterms:W3CDTF">2021-01-31T18:06:26Z</dcterms:modified>
  <cp:revision>67</cp:revision>
  <dc:subject/>
  <dc:title>Општи принципи физиологије човека Преглед ћелијске физиологије Транспорт кроз ћелијску мембрану Међућелијска комуникација</dc:title>
</cp:coreProperties>
</file>